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C4B-062F-4765-BE22-612067A1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2C5-C02D-412A-916B-29313DC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EB7-E95A-4243-B418-FCC6BA8B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485-9949-4FD1-904C-4B8C4925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8B4-185F-47FB-A7C1-D6C1362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6F2-ABCD-45F9-9092-52B417E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A0C-BE5E-4E5D-BF8C-DD104DA1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407-18E5-4749-8D5E-326E162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EAB-1039-4170-B50B-20130B9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942-8207-4C2E-B728-CBCB0C1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53C-BFB0-48A6-988B-0FC44A8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030-6176-49E6-9B0C-3E29DEC7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73B7-F021-4A19-8ADE-60AE13E5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in%20título-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in%20título-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in%20título-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in%20título-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in%20título-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in%20título-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in%20título-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in%20título-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in%20título-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in%20título-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7:21:54Z</dcterms:created>
  <dc:creator>Grupo Editorial</dc:creator>
  <dc:description/>
  <dc:language>en-US</dc:language>
  <cp:lastModifiedBy>Grupo Editorial</cp:lastModifiedBy>
  <dcterms:modified xsi:type="dcterms:W3CDTF">2001-09-21T07:28:54Z</dcterms:modified>
  <cp:revision>1</cp:revision>
  <dc:subject/>
  <dc:title>Sin título de diapositiva</dc:title>
</cp:coreProperties>
</file>